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CBB2-8C78-47F1-9DDF-8010E77E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D0C3-263B-4518-A88B-C657B9FA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611-C330-46B6-8E64-8A4EC74E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508A-9632-4176-8061-B2A75E08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6E55-E1DE-4B35-9E23-67EB7A2E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BDA-9BCB-4E72-9640-CD1D54C5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8AB8-B229-4B5A-984F-A1EAB415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0A6-CF76-4875-8AA1-34B1E2C8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E868-DC62-45BB-BC18-29C99813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EA12-6172-4995-83AC-952F3CE4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CF87-51C1-402F-8A4F-B3229ADA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4932-034F-4EF6-A531-D8ED70FD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B38-D1E6-4755-B791-BD05C8371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D877-DB17-4332-A38D-BA106A82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633-1E18-40B2-BCFA-906FCCA1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6E6-6867-4FB5-B735-AD6C130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1B1-7A9B-43BC-B732-48E7A2BC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BD4-0B6E-47B6-A4C0-FDE8B239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A600-AD5A-44DD-B1AA-6CAE1ACC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0031-19A5-4EE3-A78A-33FC996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ED90-4A36-4482-BA2F-BFD661B6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0E5-C7D9-4AF7-9B94-FC6735A7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D43F-1A81-46FE-B39A-2D99F78E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83E3-0EFE-4C02-B4A2-5FDDC5A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2D52-5AB3-4995-AEEB-B1FE3AC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65D-A5CF-4469-8587-425359F5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EB61-7FB9-4FAE-B529-7C540B66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0C3-0C02-4E73-A3D7-4100FB04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D540-A6C1-4930-9E29-0C1D084C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F61D-C93D-4EE4-BBC2-774B8FFC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3FB-A54F-4A7B-BDE3-557E9FB4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C03-31BA-4DD0-BBEF-04ADC922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1AC-C5DA-4169-BCA3-84ADC4A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58E-F557-4D99-A7DC-A1E0B673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648-BA9F-4CEB-9A84-84FD2DD0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F06-0386-4FB4-AFAF-154FF928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D53-F000-47E1-A3C6-01C7E04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D1D-5338-4124-A010-17647CA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F31A-963A-4B93-BD0C-DDBAED974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924-EE16-497B-8BAC-B8369DCB9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echnology Cent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44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! Temp – Temperature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Temp probe"/>
          <p:cNvPicPr/>
          <p:nvPr/>
        </p:nvPicPr>
        <p:blipFill>
          <a:blip r:embed="rId1"/>
          <a:stretch/>
        </p:blipFill>
        <p:spPr>
          <a:xfrm>
            <a:off x="4038480" y="4114800"/>
            <a:ext cx="46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7:  Why Do We Ne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Thermome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ach cup of water by placing              two fingers in each cup for 30 seconds                &amp; predict the temperature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s of the water &amp; compare to your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thermo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MCj03513280000[1]"/>
          <p:cNvPicPr/>
          <p:nvPr/>
        </p:nvPicPr>
        <p:blipFill>
          <a:blip r:embed="rId1"/>
          <a:stretch/>
        </p:blipFill>
        <p:spPr>
          <a:xfrm rot="21067800">
            <a:off x="6997320" y="599760"/>
            <a:ext cx="1881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8:  Comparing Insu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ich cup will be the best insulator (keeps heat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emperature data for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up is the better insul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mpare to your pred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j0287563"/>
          <p:cNvPicPr/>
          <p:nvPr/>
        </p:nvPicPr>
        <p:blipFill>
          <a:blip r:embed="rId1"/>
          <a:stretch/>
        </p:blipFill>
        <p:spPr>
          <a:xfrm>
            <a:off x="6705720" y="4724280"/>
            <a:ext cx="2438280" cy="191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j0345915"/>
          <p:cNvPicPr/>
          <p:nvPr/>
        </p:nvPicPr>
        <p:blipFill>
          <a:blip r:embed="rId2"/>
          <a:stretch/>
        </p:blipFill>
        <p:spPr>
          <a:xfrm flipH="1">
            <a:off x="7238520" y="762120"/>
            <a:ext cx="1654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9:  Design a Ther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terials to create a ther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he temperature of the water for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uccessful was your              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j0237672"/>
          <p:cNvPicPr/>
          <p:nvPr/>
        </p:nvPicPr>
        <p:blipFill>
          <a:blip r:embed="rId1"/>
          <a:stretch/>
        </p:blipFill>
        <p:spPr>
          <a:xfrm>
            <a:off x="6095880" y="4343400"/>
            <a:ext cx="2060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0:  I’m Mel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temperature of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one ice cube and continue to record the temperature as the ice m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ame procedure with             a second ic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Cj02158370000[1]"/>
          <p:cNvPicPr/>
          <p:nvPr/>
        </p:nvPicPr>
        <p:blipFill>
          <a:blip r:embed="rId1"/>
          <a:stretch/>
        </p:blipFill>
        <p:spPr>
          <a:xfrm>
            <a:off x="6095880" y="4672080"/>
            <a:ext cx="28195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1:  Learning to Use Go! Te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2:  Mittens 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3:  Baggie Mitt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4:  Sole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5:  Cool Re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237410"/>
          <p:cNvPicPr/>
          <p:nvPr/>
        </p:nvPicPr>
        <p:blipFill>
          <a:blip r:embed="rId1"/>
          <a:stretch/>
        </p:blipFill>
        <p:spPr>
          <a:xfrm>
            <a:off x="6705720" y="2438280"/>
            <a:ext cx="1447560" cy="131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90430"/>
          <p:cNvPicPr/>
          <p:nvPr/>
        </p:nvPicPr>
        <p:blipFill>
          <a:blip r:embed="rId2"/>
          <a:stretch/>
        </p:blipFill>
        <p:spPr>
          <a:xfrm>
            <a:off x="5943600" y="3505320"/>
            <a:ext cx="1066680" cy="106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287501"/>
          <p:cNvPicPr/>
          <p:nvPr/>
        </p:nvPicPr>
        <p:blipFill>
          <a:blip r:embed="rId3"/>
          <a:stretch/>
        </p:blipFill>
        <p:spPr>
          <a:xfrm>
            <a:off x="6172200" y="4724280"/>
            <a:ext cx="1179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6:  Cold As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7:  Why Do We Need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Thermome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8:  Comparing Insu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9:  Design a Ther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0:  I’m Melting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j0232106"/>
          <p:cNvPicPr/>
          <p:nvPr/>
        </p:nvPicPr>
        <p:blipFill>
          <a:blip r:embed="rId1"/>
          <a:stretch/>
        </p:blipFill>
        <p:spPr>
          <a:xfrm>
            <a:off x="5181480" y="914400"/>
            <a:ext cx="1203480" cy="15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3513280000[1]"/>
          <p:cNvPicPr/>
          <p:nvPr/>
        </p:nvPicPr>
        <p:blipFill>
          <a:blip r:embed="rId2"/>
          <a:stretch/>
        </p:blipFill>
        <p:spPr>
          <a:xfrm rot="21067800">
            <a:off x="6324480" y="1828800"/>
            <a:ext cx="1206720" cy="151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j0287563"/>
          <p:cNvPicPr/>
          <p:nvPr/>
        </p:nvPicPr>
        <p:blipFill>
          <a:blip r:embed="rId3"/>
          <a:stretch/>
        </p:blipFill>
        <p:spPr>
          <a:xfrm>
            <a:off x="7086600" y="3352680"/>
            <a:ext cx="1828800" cy="143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0237672"/>
          <p:cNvPicPr/>
          <p:nvPr/>
        </p:nvPicPr>
        <p:blipFill>
          <a:blip r:embed="rId4"/>
          <a:stretch/>
        </p:blipFill>
        <p:spPr>
          <a:xfrm>
            <a:off x="6095880" y="4800600"/>
            <a:ext cx="1206720" cy="12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MCj02158370000[1]"/>
          <p:cNvPicPr/>
          <p:nvPr/>
        </p:nvPicPr>
        <p:blipFill>
          <a:blip r:embed="rId5"/>
          <a:stretch/>
        </p:blipFill>
        <p:spPr>
          <a:xfrm rot="409800">
            <a:off x="1828440" y="5257440"/>
            <a:ext cx="2055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:  Learning to Use Go! Te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how to use a Go! Temp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change the temperature of your 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 of the water in each c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how to create the let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let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e temp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j0290422"/>
          <p:cNvPicPr/>
          <p:nvPr/>
        </p:nvPicPr>
        <p:blipFill>
          <a:blip r:embed="rId1"/>
          <a:stretch/>
        </p:blipFill>
        <p:spPr>
          <a:xfrm rot="21431400">
            <a:off x="228600" y="3429000"/>
            <a:ext cx="78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2:  Mittens 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your p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a m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mitten on your hand and find the temperature of your palm with the mitt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ittens help your              hands stay wa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37410"/>
          <p:cNvPicPr/>
          <p:nvPr/>
        </p:nvPicPr>
        <p:blipFill>
          <a:blip r:embed="rId1"/>
          <a:stretch/>
        </p:blipFill>
        <p:spPr>
          <a:xfrm>
            <a:off x="6095880" y="4267080"/>
            <a:ext cx="25909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3:  Baggie Mitt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which materials would                   make the best ins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itten from the plastic            baggies and insula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your hand in the mitten and find th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your mitten on an ice pack and find the temperature of your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ittens made of different types of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j0212681"/>
          <p:cNvPicPr/>
          <p:nvPr/>
        </p:nvPicPr>
        <p:blipFill>
          <a:blip r:embed="rId1"/>
          <a:stretch/>
        </p:blipFill>
        <p:spPr>
          <a:xfrm>
            <a:off x="6248520" y="1447920"/>
            <a:ext cx="2361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4:  Sole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ich shoe will have the most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 the temperature probe across the sole of the shoe &amp; find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different types of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temperature of the         soles of different types of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hoes have the lowest                and highest fr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0290430"/>
          <p:cNvPicPr/>
          <p:nvPr/>
        </p:nvPicPr>
        <p:blipFill>
          <a:blip r:embed="rId1"/>
          <a:stretch/>
        </p:blipFill>
        <p:spPr>
          <a:xfrm>
            <a:off x="7543800" y="51055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90429"/>
          <p:cNvPicPr/>
          <p:nvPr/>
        </p:nvPicPr>
        <p:blipFill>
          <a:blip r:embed="rId2"/>
          <a:stretch/>
        </p:blipFill>
        <p:spPr>
          <a:xfrm>
            <a:off x="6172200" y="5289480"/>
            <a:ext cx="1376280" cy="15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290445"/>
          <p:cNvPicPr/>
          <p:nvPr/>
        </p:nvPicPr>
        <p:blipFill>
          <a:blip r:embed="rId3"/>
          <a:stretch/>
        </p:blipFill>
        <p:spPr>
          <a:xfrm>
            <a:off x="7315200" y="3962520"/>
            <a:ext cx="1523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5:  Cool Re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the cup with 3 teaspoons of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temperature of the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1 teaspoon of baking s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changing           temperature of a reaction            between baking soda and           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j0292116"/>
          <p:cNvPicPr/>
          <p:nvPr/>
        </p:nvPicPr>
        <p:blipFill>
          <a:blip r:embed="rId1"/>
          <a:stretch/>
        </p:blipFill>
        <p:spPr>
          <a:xfrm>
            <a:off x="6019920" y="4038480"/>
            <a:ext cx="289548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6:  Cold As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ice to the cup of water &amp;        record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spoonfuls of salt                     to the ic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salt affect the       temperature of the freezing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j0232106"/>
          <p:cNvPicPr/>
          <p:nvPr/>
        </p:nvPicPr>
        <p:blipFill>
          <a:blip r:embed="rId1"/>
          <a:stretch/>
        </p:blipFill>
        <p:spPr>
          <a:xfrm>
            <a:off x="6553080" y="2819520"/>
            <a:ext cx="195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5:02:31Z</dcterms:created>
  <dc:creator>Randolph County Schools</dc:creator>
  <dc:description/>
  <dc:language>en-US</dc:language>
  <cp:lastModifiedBy>Ana Flyod</cp:lastModifiedBy>
  <dcterms:modified xsi:type="dcterms:W3CDTF">2011-02-06T19:38:35Z</dcterms:modified>
  <cp:revision>24</cp:revision>
  <dc:subject/>
  <dc:title>Technology Centers</dc:title>
</cp:coreProperties>
</file>